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45200" cy="934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5280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90960" y="0"/>
            <a:ext cx="305280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0160" y="701640"/>
            <a:ext cx="4668840" cy="350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76880"/>
            <a:ext cx="3052800" cy="46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90960" y="8876880"/>
            <a:ext cx="3052800" cy="46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972F-917A-46A8-8E04-71DE9DF05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2AE1-78B6-4042-99EA-25FBCA46C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3825-7E95-4ED1-B871-E03B47C9B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3D54-5BA3-4EC0-B4A0-113681058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4C46-E9B6-45F4-9E97-206AC8184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1108-03AB-4298-8682-35F16DC78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30C0-E66F-48FF-8993-BCE76FEEF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7595-B9EF-4BEB-AC1C-6253AC530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3A67-4F89-4590-B1EA-AA1EB8D7D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5618-F9E2-4530-BE2B-C1363E19F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76B2-7D00-4434-BAED-E1C50E2B9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F0CD-5ED4-439A-BC3D-A5C851FFF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8645-1F16-4140-B21C-A38DEA740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B357-A000-4C91-8411-31A1D66EA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C409-80F7-44A4-A748-28259E6B6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B4FB-D5E9-43CC-8162-FA04400F8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F4E7-80E3-4EB7-BAF2-7AE70F39F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0D7B-64FB-4CAF-8EC6-0AE4C84F1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2F3C-79BB-4306-B722-AA598885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CD82-F1BA-4E14-8686-B13643375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4999-B72D-4021-8A0B-4D918E233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5F44-8BD1-4263-AF1C-5C943966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22DA-88C7-4A79-991C-3390C27E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02E1-E03C-41FF-875C-AC33229A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98FE-77CF-49D8-94B2-21EF1CC9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AC7D-3CD0-4251-9739-87833F0E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BA40-15A2-4E9C-8E80-E913B2E5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8485-DC17-4E25-B225-7875906D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28AA-0B00-4953-8547-0D84329E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8ABA-FC79-484A-B66B-8B0D397E56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Tahoma"/>
              </a:rPr>
              <a:t>Theme 5: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Nutrition, food storage, value addition and mycotoxin management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1760" y="190512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ESENTED B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 Mahama Saaka (Ph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hool of Allied Health Sciences- Tam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chievements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d monthly GMP sessions held in 25 programme communiti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e community durbars on quarterly basis to demonstrate how to prepare enriched energy- and nutrient- rich dishes with local ingredients (cereals, legumes, eggs, and vegetab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chievements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manuscripts have been published in peer review journ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ooklet on child malnutrition in northern Ghana has also been produc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chievements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aseline information now available on aflatoxins levels and prevalence in maize and peanut in the intervention z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ority strategies have been identified  to be incorporated into work plan of Phase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ummary Description of the Community Intervention Tri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Activities carried out were part of a package designed to test the hypothesis that nutrition  behaviour change communication (BCC) combined with nutrition sensitive agricultural interventions will better promote the production and consumption of diverse and nutrient-rich foo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ummary Description of the Community Intervention Trial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total of 400 moderate to severe malnourished children aged 6-36 months were randomly assigned to one of the following treatme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umes, Vegetables and Livestock  p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umes, Vegetables and Livestock + Nutrition BC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Summary Description of the Community Intervention Trial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groups of intervention communities received nutrition sensitive agricultural interventions including production of nutrient-dense crops (cowpea, soybean, groundnut, vegetables) and/or rearing of small ruminant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Summary Description of the Community Intervention Trial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as, the comparison communities received only the agricultural interventions, the intervention communities received additional nutrition BCC through community Growth Monitoring and Promotion (GMP) and reinforced through home visits peer counsell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Summary Description of the Community Intervention Trial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utcome of the trial is currently being evalu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blems/Challenges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of the health personnel trained to support and supervise the work of community volunteers have been transferred out of the programme distri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vention households were not provided with the needed support (facilities for rearing livestock such as goats and sheep or guinea-fow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re was inadequate funding for Postharvest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y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re should be clear work plan and stability of funding should be streamlined prior to start of programs in Phase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he focus of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theme 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was to identify and promote the consumption of diverse, micronutrient-rich and safe foods  to improve nutritional outcomes of children, pregnant and nursing m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y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TA should through inter-sectoral approaches, promote and support diversified production of drought-resistant crops, including fruits &amp; vegetables, and improved breed of small ruminants and poultry at the household and community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Enhance nutrient intake of children through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an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innovative programme that will stimulate behaviour change towards feeding children with animal source foods (ASF foo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s to effectively implement homestead food production (HFP) coupled with nutrition education to increase availability and consumption of micronutrient-rich foods (fruits and vegetables and animal source foods) in poor households may contribute to the nutritional well-being of the popu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engthen and harmonize the institutional framework for coordination and capacity to carry out Nutrition-Agriculture interven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trong advocate for and support integration of nutrition in agricultural programmes at the district and sub-district  leve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, document and disseminate findings on positive indigenous dietary pract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ile food composition data for major foods consumed in Northern Gh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y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e proper food handling, hygiene, and sanitation through increased knowledge, use of safe water and hand-washing practices at the household lev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y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Need to upscale integrated pre-and-postharvest management strategies to reduce consumer risk in Gh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OF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Activit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ed nutrition education including demonstration on how to prepare nutrient- rich dishes with local ingredients (cereals, legumes, eggs, and vegetab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and counseling in optimal maternal nutrition and infant/young child feeding practices through growth monitoring and promotion (GMP) sessi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Activit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lding monthly GMP sessions to detect children at risk of malnutrition early enough for counseling and nutrition rehabilit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rained CHWs  also provid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utritio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ounseling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home visits to m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Activit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essages delivered included  the importance of diversifying diets, nutrition during pregnancy, early and exclusive breastfeeding, the appropriate quantity and quality of complementary foods, personal and environmental hygie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Activit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uct of a baseline survey on the nutritional status and dietary practices of children in project commun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ssessment of the dietary intake and nutritional status and household food insecurity situation of pregnant women in project commun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Activit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valuated how the current handling operations influence  postharvest quality, losses and aflatoxin levels</a:t>
            </a:r>
            <a:r>
              <a:rPr b="1" lang="en-I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ffffff"/>
                </a:solidFill>
                <a:latin typeface="Arial"/>
              </a:rPr>
              <a:t>Determined total aflatoxin levels in peanut samples from  farmer storage units and on-farm research demonstr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Activit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ducted participatory on-farm evaluation of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 peanut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genotypes for resistance to aflatoxins at 3 multi-lo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chievements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0 community health workers (CHWs), including members of women’s groups were trained in Infant and Young Child Feeding (IYCF) pract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d weighing scales, infantometers and registers to support community GMP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22:30:10Z</dcterms:created>
  <dc:creator>Amy</dc:creator>
  <dc:description/>
  <dc:language>en-US</dc:language>
  <cp:lastModifiedBy>mahama Saaka</cp:lastModifiedBy>
  <dcterms:modified xsi:type="dcterms:W3CDTF">2016-12-12T11:57:21Z</dcterms:modified>
  <cp:revision>1567</cp:revision>
  <dc:subject/>
  <dc:title>Gastroenteritis at a University in Texas</dc:title>
</cp:coreProperties>
</file>